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AD9-6466-4360-8C2A-E08E6F5D6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45AC-44AF-4902-A1FC-8CEBF0AB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18AD-0BE9-4EA6-BECF-DED0E970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3CA1-DE8D-4E3B-BFF0-A1BD4AF58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FD0-11E8-4FFD-8C2F-5F3F4C44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EE1B-3BFF-4604-927F-D0F286F4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BBA-0F37-4A76-9C26-44743973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5EC-5878-48E6-86CA-40E8D92E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D0E5-C2EA-4A14-B5E3-64A99A1A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B960-6FB3-4B81-BC1C-8F56D732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116B-5B6D-4252-B207-D79ED306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23F8-5D52-492C-A848-B6B6A981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F264-0DD6-4306-A1BE-987E49CC2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20.xml"/><Relationship Id="rId14" Type="http://schemas.openxmlformats.org/officeDocument/2006/relationships/slide" Target="slide20.xml"/><Relationship Id="rId15" Type="http://schemas.openxmlformats.org/officeDocument/2006/relationships/slide" Target=""/><Relationship Id="rId16" Type="http://schemas.openxmlformats.org/officeDocument/2006/relationships/slide" Target="slide26.xml"/><Relationship Id="rId17" Type="http://schemas.openxmlformats.org/officeDocument/2006/relationships/slide" Target=""/><Relationship Id="rId18" Type="http://schemas.openxmlformats.org/officeDocument/2006/relationships/slide" Target="slide28.xml"/><Relationship Id="rId19" Type="http://schemas.openxmlformats.org/officeDocument/2006/relationships/slide" Target=""/><Relationship Id="rId20" Type="http://schemas.openxmlformats.org/officeDocument/2006/relationships/slide" Target="slide30.xml"/><Relationship Id="rId21" Type="http://schemas.openxmlformats.org/officeDocument/2006/relationships/slide" Target=""/><Relationship Id="rId22" Type="http://schemas.openxmlformats.org/officeDocument/2006/relationships/slide" Target="slide32.xml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slide2.xml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7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9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1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3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5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7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9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1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6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7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8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9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oc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that flows from the sun through organis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 pyrami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biome gets less than 25 centimeters of rain or snow each ye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dese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greens are mainly in this forest bi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aiga Bio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biome is near the equator and is very w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ropical Rainfores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076400" cy="74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ly small plants can grow during a very short warm season in this very cold bio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undra Bio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oup of same species in same area, at the same ti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forests lose their leaves in the fal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Deciduous Forest Biom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opul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085760" cy="76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76040" cy="733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place where a species lives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90520" cy="819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07640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abita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085760" cy="762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role an organism has in an ecosyst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nich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076040" cy="742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l the populations in an ecosyste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commun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76040" cy="7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udsd</cp:lastModifiedBy>
  <dcterms:modified xsi:type="dcterms:W3CDTF">2010-11-03T19:47:39Z</dcterms:modified>
  <cp:revision>54</cp:revision>
  <dc:subject/>
  <dc:title>No Slide Title</dc:title>
</cp:coreProperties>
</file>